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646-C62D-4F24-BF45-615FE674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FDF-4266-446C-B88C-CD9AA689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80F-2187-4E81-9BBD-5F190CDC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421-A929-46D8-843F-707C5E44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9B8-9591-42B0-9709-E3C98B75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ED8-6695-4599-9A1D-57874000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FB8-1717-4E63-AFFF-830D1918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944-863D-434F-AB6C-FD1BE56C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31D-883D-40FA-AE6C-0873A6F7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E10-4F5E-467F-8B07-8354BAE8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5DD-2906-4CEA-AAA7-DD30396A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42A-F9B5-401B-87AB-AF5BDDD5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1ECC-5AB9-4F38-9AC9-D18D2E9DD7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Asus</cp:lastModifiedBy>
  <dcterms:modified xsi:type="dcterms:W3CDTF">2018-11-24T09:31:07Z</dcterms:modified>
  <cp:revision>54</cp:revision>
  <dc:subject/>
  <dc:title>Texto</dc:title>
</cp:coreProperties>
</file>